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C974-08B1-4ED4-BE74-1E477A99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6DCB-D0E1-46CA-9C6B-A53A5049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1CE8-C44E-43C6-A93B-B8CD0FE4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9867-39D4-4903-B4AB-ADEF6690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A2E5-A4CF-4EC6-B68C-9681EBE0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A1B2-DE12-4064-83DF-0EBB3051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16A-89B9-46A9-B8AD-99B1A18A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7B54-B0C1-4C3B-BAF1-2A4B3422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2C0D-7F8D-4DFF-A967-4EBF8FFE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1291-D474-4C78-AB89-AA9D1073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9639-5E1E-41D3-A523-E8C27A1E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2FD2-BBCE-40B8-A753-3B8A9E00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3507-089E-4E0F-82DE-C800BF5F4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7240"/>
            <a:ext cx="906768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/W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yout made it easier to follow certain lin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d the picture slide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nks were simple and gave me exactly the information that I wa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3434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/W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too much information on the page and it doesn’t seem organized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hought the links were hard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d a hard time understanding what I was looking at or reading some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76320" y="-5724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/W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ebsite is easy to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nks are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ages make it easy to understand what the page is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nks also have some great supplement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3886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6:07:26Z</dcterms:created>
  <dc:creator>DCSUSER</dc:creator>
  <dc:description/>
  <dc:language>en-US</dc:language>
  <cp:lastModifiedBy>DCSUSER</cp:lastModifiedBy>
  <dcterms:modified xsi:type="dcterms:W3CDTF">2011-03-11T16:07:27Z</dcterms:modified>
  <cp:revision>1</cp:revision>
  <dc:subject/>
  <dc:title>Slide 1</dc:title>
</cp:coreProperties>
</file>